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32.wmf" ContentType="image/x-wmf"/>
  <Override PartName="/ppt/media/image6.gif" ContentType="image/gif"/>
  <Override PartName="/ppt/media/image3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9.gif" ContentType="image/gif"/>
  <Override PartName="/ppt/media/image8.png" ContentType="image/png"/>
  <Override PartName="/ppt/media/image13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gif" ContentType="image/gif"/>
  <Override PartName="/ppt/media/image20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EB4-359D-4A5E-9ED3-7DB48EAE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6B4-CA87-4D14-B849-484E25C9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729-10E1-4EBB-A509-4E992CA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FDB-50A6-4915-9B70-EC5A9F96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5DA-CE3E-459B-A869-E40E0D26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209-1249-4D44-9124-AC91EBC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FB72-7BA2-46FD-B315-6F55E885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D7F3-BFDC-4FA0-8C37-33BC2CE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58A1-4BAE-4045-8B09-3BE376C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53EB-BD77-4EE1-B8FB-F48FADA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E1F-0A71-4EF1-BAAF-91A9E53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DD3-CD15-4F21-B34C-A9A5C6A3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7A9B-E05A-47C9-A6FE-A85503B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CBD1-8EFE-452C-9ACB-257DF23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868-465C-4263-A52C-9D8B7AAB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C0D8-C936-4F0F-BBC1-F582D505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CF9B-363F-4F0D-89CC-512AC680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3CA8-FB49-430A-8595-F9DB4934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9947-E1EA-4637-9231-7B9A46D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49B1-3B17-441A-B8C1-7751884F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578D-DEC4-4A83-88D4-8E679B7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47B6-DD60-4CCB-9EBB-D0E31E9A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A74-7ABD-43B3-9AAD-BB3977E3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9212-12C3-4627-B589-95F4A37B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623D-E00E-4CF3-9946-522B6F0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6A39-57A1-4C1A-A066-3AACBCFF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7984-4F0B-4078-BCB8-6897F765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55ED-1721-42A6-810E-9D64E1F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D518-F33B-4C50-A3F3-39016E4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7AAD-A08C-40C7-8C68-5B9EF2F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452B-44DA-4CAD-8E23-98A53904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6921-4155-4EBD-8198-94934523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7AAA-A33B-4834-BD5D-FDBDC3CF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1AC-8660-416F-8233-3B0A413A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6BE7F-67BF-4831-BF8D-882B76D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03AF-1086-46D6-8F4B-A78ED688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ECA0-556C-41DE-ABCC-EE9BD35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3DCE-C848-4188-9892-846A9F9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5471-7D37-4605-BC35-C7A1E51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87AF-F211-4D0C-9107-17BB288E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4C6B-81E3-40EC-99ED-9694C32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F38C2-6D22-4B5E-8ACD-7F3453C4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3BA1-A387-45DC-A904-5EF91895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8433-00C4-49A5-AE0A-4D80831E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486-6319-48F2-AF45-F49BA62D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2F34-9FEC-492C-A4DF-3B01CEA7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3CC4D-9196-409D-AD50-FC35B2D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95BA-D6FB-4757-B8E3-5C3AC2DB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35584-09BC-4B9F-8E67-3A6DBA0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30F4-965A-4647-9946-D3A7F25B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5122B-0AA0-4594-8FE2-D6C049A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0539-FA0D-49D4-9A8F-EF3B78E2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B2E8-C583-448C-AC1C-2D1FFCB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54BC5-82A1-4995-8FBB-7B3928B9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0F3F1-E7C7-4755-A999-3C1919BC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E98-9789-4FA8-82AB-641D2056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0038-6965-4C5A-853F-0063A2B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DDF-7B99-46AE-B6C1-8AD51BD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1BC-C7F8-4ED1-B4E3-A0C4CD8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86E-E9DC-46F8-9A02-FA0248B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0008-020A-4D79-AA7B-0D522628FD2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ABB7-7AB7-4758-BAA1-0AD2E958E31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020-47BC-4FA7-996D-3FFAD5A1D79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2F8C-284C-4A33-9EC8-5F0B0F0B795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D560-220E-427D-BDD0-287355480D6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pn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291960" y="-285840"/>
            <a:ext cx="9972360" cy="392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Documents and Settings\Татьяна\Мои документы\Конкурсы\Медиаурок\Заготовки\Рисунки\Balls.gif"/>
          <p:cNvPicPr/>
          <p:nvPr/>
        </p:nvPicPr>
        <p:blipFill>
          <a:blip r:embed="rId2"/>
          <a:stretch/>
        </p:blipFill>
        <p:spPr>
          <a:xfrm>
            <a:off x="2727360" y="40384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2286000" y="29671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физики МАОУ СОШ№5 Л.В.По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28520" y="-414360"/>
            <a:ext cx="8863200" cy="16574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ыбрать систему отсчет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ыделить систему взаимодействующих тел и выяснить, какие силы для неё являются внутренними, а какие - внешни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пределить импульсы всех тел системы до и после взаимодейств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сли в целом система незамкнутая, но сумма проекций сил на одну из осей равна нулю, то следует написать закон сохранения лишь в проекциях на эту ос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сли внешние силы пренебрежимо малы в сравнении с внутренними ( как в случае удара тел), то следует написать закон сохранения суммарного импульса в векторной форме и перейти к скалярн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сли на тела системы действуют внешние силы и ими нельзя пренебречь, то следует написать закон изменения импульса в векторной форме и перейти к скалярн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5680" y="-396720"/>
            <a:ext cx="7613640" cy="2274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09680" y="2057400"/>
            <a:ext cx="5562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  <a:ea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  <a:ea typeface="Arial"/>
              </a:rPr>
              <a:t>§</a:t>
            </a:r>
            <a:r>
              <a:rPr b="0" lang="ru-RU" sz="4000" spc="-1" strike="noStrike">
                <a:solidFill>
                  <a:srgbClr val="ffff00"/>
                </a:solidFill>
                <a:latin typeface="Trebuchet MS"/>
                <a:ea typeface="Arial"/>
              </a:rPr>
              <a:t>23-</a:t>
            </a:r>
            <a:r>
              <a:rPr b="0" lang="en-US" sz="4000" spc="-1" strike="noStrike">
                <a:solidFill>
                  <a:srgbClr val="ffff00"/>
                </a:solidFill>
                <a:latin typeface="Trebuchet MS"/>
                <a:ea typeface="Arial"/>
              </a:rPr>
              <a:t>§</a:t>
            </a:r>
            <a:r>
              <a:rPr b="0" lang="ru-RU" sz="4000" spc="-1" strike="noStrike">
                <a:solidFill>
                  <a:srgbClr val="ffff00"/>
                </a:solidFill>
                <a:latin typeface="Trebuchet MS"/>
                <a:ea typeface="Arial"/>
              </a:rPr>
              <a:t>25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rebuchet MS"/>
                <a:ea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rebuchet MS"/>
                <a:ea typeface="Arial"/>
              </a:rPr>
              <a:t>записи в тетради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rebuchet MS"/>
                <a:ea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rebuchet MS"/>
                <a:ea typeface="Arial"/>
              </a:rPr>
              <a:t>упр. 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6" descr="MM900041036[1]"/>
          <p:cNvPicPr/>
          <p:nvPr/>
        </p:nvPicPr>
        <p:blipFill>
          <a:blip r:embed="rId2"/>
          <a:stretch/>
        </p:blipFill>
        <p:spPr>
          <a:xfrm>
            <a:off x="7086600" y="5410080"/>
            <a:ext cx="16192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3108240" y="536400"/>
            <a:ext cx="56390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8369280" cy="10130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лежка массой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0,1 кг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ви-жется равномерно по столу со скоростью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5 м/с,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ак как изоб-ражено на рисунке. Чему равен её импульс и как направлен вектор импульса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0,5 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, вправ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0,5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, влев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,0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, вправ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0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, влев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0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, вправ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7960" y="1267920"/>
            <a:ext cx="4244760" cy="5185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втомобиль массой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 тонна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движется прямолинейно со скоростью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20 м/с. Импульс автомобиля равен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0,5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rebuchet MS"/>
                <a:ea typeface="Arial"/>
              </a:rPr>
              <a:t>3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rebuchet MS"/>
                <a:ea typeface="Arial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rebuchet MS"/>
                <a:ea typeface="Arial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0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)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0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г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13" name="Object 5"/>
          <p:cNvGraphicFramePr/>
          <p:nvPr/>
        </p:nvGraphicFramePr>
        <p:xfrm>
          <a:off x="1116000" y="1268280"/>
          <a:ext cx="2666880" cy="12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268280"/>
                    <a:ext cx="26668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AutoShape 6">
            <a:hlinkClick r:id="rId6" action="ppaction://hlinksldjump"/>
          </p:cNvPr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8369280" cy="1013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Теннисный мяч массой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, двигаясь вправо по оси ОХ, упруго ударяется о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бетон-ную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стенку, имея перед ударом скорость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. Определите направление и модуль изменения импульса мяч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ево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)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ево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)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право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)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право, 2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)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импульс не измени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1267920"/>
            <a:ext cx="4244760" cy="5185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Шар из пластилина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ассой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, двигаясь вправо по оси ОХ, ударяется о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бетонную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стенку, имея перед ударом скорость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. Определите направление и модуль изменения импульса мяч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ево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)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ево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)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право,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)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право, 2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v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)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импульс не измени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AutoShape 5">
            <a:hlinkClick r:id="rId4" action="ppaction://hlinksldjump"/>
          </p:cNvPr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8369280" cy="1013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атериальная точка массой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 кг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двигалась по прямой и под действием силы в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0 Н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изменила свою скорость на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0 м/с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За какое время это произошло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) 0,5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) 5   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) 2   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) 0,2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) 20 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7960" y="1267920"/>
            <a:ext cx="4244760" cy="5185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Автомобиль, первоначально двигавшийся со скоростью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0 м/с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, после выключения двигателя остановился через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секунды. Сила сопротив-ления, действовавшая на автомобиль при торможении равна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6000 Н.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Масса авто-мобиля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1) 600 к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2) 700 к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3) 800 к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4) 900 к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5) 1000 к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AutoShape 5">
            <a:hlinkClick r:id="rId4" action="ppaction://hlinksldjump"/>
          </p:cNvPr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8369280" cy="10130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 массивной тележки, движу-щейся со скоростью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=1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производится «выстрел» из баллистического пистолета. Масса «снаряда»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0,1 кг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, а скорость его вылета относи-тельно тележки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=5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.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Чему равен модуль импульса «снаряда» относительно Земли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1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5   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1   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0,6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4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0,5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0,4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7960" y="1267920"/>
            <a:ext cx="4244760" cy="5185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Два автомобиля в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, связанной с Землей, движутся со скоростями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=10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=20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оответственно рисунку, масса каждого из них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1000 кг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. Чему равен импульс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второго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автомобиля в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О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, связан-ной с первым автомобилем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1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 30 000   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 30 000   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10 000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4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-10 000 кг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·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реди ответов 1-4 нет правильно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476360" y="1268280"/>
          <a:ext cx="2171880" cy="136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1268280"/>
                    <a:ext cx="21718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6"/>
          <p:cNvGraphicFramePr/>
          <p:nvPr/>
        </p:nvGraphicFramePr>
        <p:xfrm>
          <a:off x="5219640" y="1268280"/>
          <a:ext cx="3286080" cy="142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1268280"/>
                    <a:ext cx="32860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AutoShape 7">
            <a:hlinkClick r:id="rId8" action="ppaction://hlinksldjump"/>
          </p:cNvPr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3203640" y="1413000"/>
          <a:ext cx="5430600" cy="406080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ac66bb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ac66bb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34" name="Text Box 23"/>
          <p:cNvSpPr/>
          <p:nvPr/>
        </p:nvSpPr>
        <p:spPr>
          <a:xfrm>
            <a:off x="324000" y="2276640"/>
            <a:ext cx="273528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de66"/>
                </a:solidFill>
                <a:uFillTx/>
                <a:latin typeface="Arial"/>
                <a:hlinkClick r:id="rId12" action="ppaction://hlinksldjump"/>
              </a:rPr>
              <a:t>1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c66bb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c66bb"/>
                </a:solidFill>
                <a:latin typeface="Arial"/>
              </a:rPr>
              <a:t>2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490c5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c66bb"/>
                </a:solidFill>
                <a:latin typeface="Arial"/>
              </a:rPr>
              <a:t>3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490c5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c66bb"/>
                </a:solidFill>
                <a:latin typeface="Arial"/>
              </a:rPr>
              <a:t>4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490c5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8339040" cy="925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643280" y="1268280"/>
            <a:ext cx="4245120" cy="518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6"/>
          <p:cNvGraphicFramePr/>
          <p:nvPr/>
        </p:nvGraphicFramePr>
        <p:xfrm>
          <a:off x="1116000" y="1268280"/>
          <a:ext cx="2666880" cy="12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268280"/>
                    <a:ext cx="26668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250920" y="2492280"/>
                <a:ext cx="4249800" cy="24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определения</m:t>
                        </m:r>
                        <m:r>
                          <m:t xml:space="preserve">: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,5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мпульс</m:t>
                        </m:r>
                        <m:r>
                          <m:rPr>
                            <m:lit/>
                            <m:nor/>
                          </m:rPr>
                          <m:t xml:space="preserve">тела</m:t>
                        </m:r>
                        <m:r>
                          <m:rPr>
                            <m:lit/>
                            <m:nor/>
                          </m:rPr>
                          <m:t xml:space="preserve">имее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правление</m:t>
                        </m:r>
                        <m:r>
                          <m:rPr>
                            <m:lit/>
                            <m:nor/>
                          </m:rPr>
                          <m:t xml:space="preserve">скор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4643280" y="2492280"/>
                <a:ext cx="4104000" cy="23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определения</m:t>
                        </m:r>
                        <m:r>
                          <m:t xml:space="preserve">: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8339040" cy="9255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643280" y="1268280"/>
            <a:ext cx="4245120" cy="518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250920" y="1346040"/>
                <a:ext cx="4249800" cy="313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торого</m:t>
                        </m:r>
                        <m:r>
                          <m:rPr>
                            <m:lit/>
                            <m:nor/>
                          </m:rPr>
                          <m:t xml:space="preserve">закона</m:t>
                        </m:r>
                        <m:r>
                          <m:rPr>
                            <m:lit/>
                            <m:nor/>
                          </m:rPr>
                          <m:t xml:space="preserve">Ньютона</m:t>
                        </m:r>
                        <m:r>
                          <m:t xml:space="preserve">:</m:t>
                        </m:r>
                      </m:e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Δt</m:t>
                        </m:r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r>
                          <m:t xml:space="preserve">m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Δ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f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r>
                                  <m:t xml:space="preserve">с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Н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4643280" y="1346040"/>
                <a:ext cx="4249800" cy="369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торого</m:t>
                        </m:r>
                        <m:r>
                          <m:rPr>
                            <m:lit/>
                            <m:nor/>
                          </m:rPr>
                          <m:t xml:space="preserve">закона</m:t>
                        </m:r>
                        <m:r>
                          <m:rPr>
                            <m:lit/>
                            <m:nor/>
                          </m:rPr>
                          <m:t xml:space="preserve">Ньютона</m:t>
                        </m:r>
                        <m:r>
                          <m:t xml:space="preserve">:</m:t>
                        </m:r>
                      </m:e>
                      <m:e>
                        <m:limUpp>
                          <m:e>
                            <m:r>
                              <m:t xml:space="preserve">F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Δt</m:t>
                        </m:r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r>
                          <m:t xml:space="preserve">m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онечная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0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</m:t>
                            </m:r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r>
                                  <m:t xml:space="preserve">с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eorgia"/>
              </a:rPr>
              <a:t>Повторим теорию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4" descr=""/>
          <p:cNvPicPr/>
          <p:nvPr/>
        </p:nvPicPr>
        <p:blipFill>
          <a:blip r:embed="rId1"/>
          <a:stretch/>
        </p:blipFill>
        <p:spPr>
          <a:xfrm>
            <a:off x="231840" y="3736800"/>
            <a:ext cx="3047760" cy="2133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Для чего ввели понятие импульс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Дайте определение импульса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материальной точ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Дайте определение импульса систе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Напишите на доске  формулу для нахождения импульса материальной точки и импульса систе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Назовите     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единицы измерения </a:t>
            </a: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данной физической величин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4643280" y="1268280"/>
            <a:ext cx="4245120" cy="518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Rectangle 3" descr=""/>
          <p:cNvPicPr/>
          <p:nvPr/>
        </p:nvPicPr>
        <p:blipFill>
          <a:blip r:embed="rId2"/>
          <a:stretch/>
        </p:blipFill>
        <p:spPr>
          <a:xfrm>
            <a:off x="347760" y="274680"/>
            <a:ext cx="8339040" cy="9255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684360" y="1268280"/>
          <a:ext cx="3600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268280"/>
                    <a:ext cx="3600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6" name="Object 8"/>
              <p:cNvSpPr txBox="1"/>
              <p:nvPr/>
            </p:nvSpPr>
            <p:spPr>
              <a:xfrm>
                <a:off x="250920" y="2349360"/>
                <a:ext cx="424980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Δ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r>
                          <m:t xml:space="preserve">m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Δp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удар упругий: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v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7" name="Object 9"/>
          <p:cNvGraphicFramePr/>
          <p:nvPr/>
        </p:nvGraphicFramePr>
        <p:xfrm>
          <a:off x="4937040" y="1274760"/>
          <a:ext cx="3589560" cy="106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37040" y="1274760"/>
                    <a:ext cx="358956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Object 10"/>
              <p:cNvSpPr txBox="1"/>
              <p:nvPr/>
            </p:nvSpPr>
            <p:spPr>
              <a:xfrm>
                <a:off x="4643280" y="2349360"/>
                <a:ext cx="4249800" cy="22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Δ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r>
                          <m:t xml:space="preserve">m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Δ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удар неупругий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онечная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8339040" cy="9255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250560" y="1267920"/>
            <a:ext cx="4244760" cy="51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4427640" y="645336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4643280" y="1268280"/>
            <a:ext cx="4245120" cy="518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6"/>
          <p:cNvGraphicFramePr/>
          <p:nvPr/>
        </p:nvGraphicFramePr>
        <p:xfrm>
          <a:off x="1468440" y="1274760"/>
          <a:ext cx="2390760" cy="141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8440" y="1274760"/>
                    <a:ext cx="239076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7"/>
          <p:cNvGraphicFramePr/>
          <p:nvPr/>
        </p:nvGraphicFramePr>
        <p:xfrm>
          <a:off x="5219640" y="1268280"/>
          <a:ext cx="3286080" cy="142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1268280"/>
                    <a:ext cx="32860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8"/>
              <p:cNvSpPr txBox="1"/>
              <p:nvPr/>
            </p:nvSpPr>
            <p:spPr>
              <a:xfrm>
                <a:off x="250920" y="2781360"/>
                <a:ext cx="3960720" cy="33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мпульс</m:t>
                        </m:r>
                        <m:r>
                          <m:rPr>
                            <m:lit/>
                            <m:nor/>
                          </m:rPr>
                          <m:t xml:space="preserve">тела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носительно</m:t>
                        </m:r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З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З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f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r>
                                  <m:t xml:space="preserve">с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f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r>
                                  <m:t xml:space="preserve">с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к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rPr>
                            <m:lit/>
                            <m:nor/>
                          </m:rPr>
                          <m:t xml:space="preserve">говорит</m:t>
                        </m:r>
                        <m:r>
                          <m:t xml:space="preserve">о</m:t>
                        </m:r>
                        <m:r>
                          <m:rPr>
                            <m:lit/>
                            <m:nor/>
                          </m:rPr>
                          <m:t xml:space="preserve">то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r>
                          <m:rPr>
                            <m:lit/>
                            <m:nor/>
                          </m:rPr>
                          <m:t xml:space="preserve">импуль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правлен</m:t>
                        </m:r>
                        <m:r>
                          <m:rPr>
                            <m:lit/>
                            <m:nor/>
                          </m:rPr>
                          <m:t xml:space="preserve">против</m:t>
                        </m:r>
                        <m:r>
                          <m:rPr>
                            <m:lit/>
                            <m:nor/>
                          </m:rPr>
                          <m:t xml:space="preserve">условно</m:t>
                        </m:r>
                        <m:r>
                          <m:rPr>
                            <m:lit/>
                            <m:nor/>
                          </m:rPr>
                          <m:t xml:space="preserve">выбранно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си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4643280" y="2781360"/>
                <a:ext cx="4249800" cy="32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мпульс</m:t>
                        </m:r>
                        <m:r>
                          <m:rPr>
                            <m:lit/>
                            <m:nor/>
                          </m:rPr>
                          <m:t xml:space="preserve">тела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p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мпульс</m:t>
                        </m:r>
                        <m:r>
                          <m:rPr>
                            <m:lit/>
                            <m:nor/>
                          </m:rPr>
                          <m:t xml:space="preserve">второго</m:t>
                        </m:r>
                        <m:r>
                          <m:rPr>
                            <m:lit/>
                            <m:nor/>
                          </m:rPr>
                          <m:t xml:space="preserve">автомобиля</m:t>
                        </m:r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систем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счета</m:t>
                        </m:r>
                        <m:r>
                          <m:rPr>
                            <m:lit/>
                            <m:nor/>
                          </m:rPr>
                          <m:t xml:space="preserve">первого</m:t>
                        </m:r>
                        <m:r>
                          <m:t xml:space="preserve">:</m:t>
                        </m:r>
                        <m:limUp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m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тносительная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корость</m:t>
                            </m:r>
                            <m:limUp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f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r>
                                  <m:t xml:space="preserve">с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f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r>
                                  <m:t xml:space="preserve">с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181480" cy="316548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6">
            <a:hlinkClick r:id="" action="ppaction://hlinkshowjump?jump=previousslide"/>
          </p:cNvPr>
          <p:cNvSpPr/>
          <p:nvPr/>
        </p:nvSpPr>
        <p:spPr>
          <a:xfrm>
            <a:off x="7543800" y="58672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Импульс силы  - это временная характеристика действия силы, равная произведению силы и длительности ее действ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Δ</a:t>
            </a:r>
            <a:r>
              <a:rPr b="0" i="1" lang="ru-RU" sz="4800" spc="-1" strike="noStrike">
                <a:solidFill>
                  <a:srgbClr val="ffff00"/>
                </a:solidFill>
                <a:latin typeface="Georgia"/>
                <a:ea typeface="Times New Roman"/>
              </a:rPr>
              <a:t>р = </a:t>
            </a:r>
            <a:r>
              <a:rPr b="0" i="1" lang="en-US" sz="4800" spc="-1" strike="noStrike">
                <a:solidFill>
                  <a:srgbClr val="ffff00"/>
                </a:solidFill>
                <a:latin typeface="Georgia"/>
                <a:ea typeface="Times New Roman"/>
              </a:rPr>
              <a:t>F</a:t>
            </a:r>
            <a:r>
              <a:rPr b="0" i="1" lang="en-US" sz="4800" spc="-1" strike="noStrike">
                <a:solidFill>
                  <a:srgbClr val="ffff00"/>
                </a:solidFill>
                <a:latin typeface="Georgia"/>
                <a:ea typeface="Arial"/>
              </a:rPr>
              <a:t>·</a:t>
            </a:r>
            <a:r>
              <a:rPr b="0" i="1" lang="el-GR" sz="3600" spc="-1" strike="noStrike">
                <a:solidFill>
                  <a:srgbClr val="ffff00"/>
                </a:solidFill>
                <a:latin typeface="Georgia"/>
                <a:ea typeface="Arial"/>
              </a:rPr>
              <a:t>Δ</a:t>
            </a:r>
            <a:r>
              <a:rPr b="0" i="1" lang="en-US" sz="4800" spc="-1" strike="noStrike">
                <a:solidFill>
                  <a:srgbClr val="ffff00"/>
                </a:solidFill>
                <a:latin typeface="Georgia"/>
                <a:ea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-102240" y="4800600"/>
            <a:ext cx="950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Georgia"/>
              </a:rPr>
              <a:t>Изменение импульса тела равно импульсу си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" action="ppaction://hlinkshowjump?jump=previousslide"/>
          </p:cNvPr>
          <p:cNvSpPr/>
          <p:nvPr/>
        </p:nvSpPr>
        <p:spPr>
          <a:xfrm>
            <a:off x="8001000" y="60958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5" descr=""/>
          <p:cNvPicPr/>
          <p:nvPr/>
        </p:nvPicPr>
        <p:blipFill>
          <a:blip r:embed="rId1"/>
          <a:stretch/>
        </p:blipFill>
        <p:spPr>
          <a:xfrm>
            <a:off x="-328680" y="19080"/>
            <a:ext cx="8948880" cy="2077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eorgia"/>
              </a:rPr>
              <a:t>Импульс замкнутой системы тел 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eorgia"/>
              </a:rPr>
              <a:t>есть величина постоянная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2971800" y="4952880"/>
            <a:ext cx="2819520" cy="97164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7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429000" cy="2070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6476760" cy="217980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>
            <a:hlinkClick r:id="" action="ppaction://hlinkshowjump?jump=previousslide"/>
          </p:cNvPr>
          <p:cNvSpPr/>
          <p:nvPr/>
        </p:nvSpPr>
        <p:spPr>
          <a:xfrm>
            <a:off x="8153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-371520" y="-96840"/>
            <a:ext cx="9515520" cy="1455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880" y="990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Дайте определение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импульсу сил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7. </a:t>
            </a:r>
            <a:r>
              <a:rPr b="0" lang="en-US" sz="26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Запишите на доске 2-ой закон Ньютона в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импульсной форме </a:t>
            </a: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и сформулируйте ег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80880" y="3048120"/>
            <a:ext cx="876312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 Может ли человек, сидящий в лодке, сдвинуться с места, не используя при этом весла?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даря чему это возмож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9"/>
          <p:cNvSpPr/>
          <p:nvPr/>
        </p:nvSpPr>
        <p:spPr>
          <a:xfrm>
            <a:off x="0" y="5943600"/>
            <a:ext cx="9145440" cy="393840"/>
          </a:xfrm>
          <a:custGeom>
            <a:avLst/>
            <a:gdLst>
              <a:gd name="textAreaLeft" fmla="*/ 0 w 9145440"/>
              <a:gd name="textAreaRight" fmla="*/ 9145800 w 91454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761" h="248">
                <a:moveTo>
                  <a:pt x="0" y="151"/>
                </a:moveTo>
                <a:cubicBezTo>
                  <a:pt x="72" y="102"/>
                  <a:pt x="144" y="53"/>
                  <a:pt x="227" y="60"/>
                </a:cubicBezTo>
                <a:cubicBezTo>
                  <a:pt x="310" y="67"/>
                  <a:pt x="408" y="188"/>
                  <a:pt x="499" y="196"/>
                </a:cubicBezTo>
                <a:cubicBezTo>
                  <a:pt x="590" y="204"/>
                  <a:pt x="643" y="98"/>
                  <a:pt x="771" y="105"/>
                </a:cubicBezTo>
                <a:cubicBezTo>
                  <a:pt x="899" y="112"/>
                  <a:pt x="1126" y="241"/>
                  <a:pt x="1270" y="241"/>
                </a:cubicBezTo>
                <a:cubicBezTo>
                  <a:pt x="1414" y="241"/>
                  <a:pt x="1512" y="112"/>
                  <a:pt x="1633" y="105"/>
                </a:cubicBezTo>
                <a:cubicBezTo>
                  <a:pt x="1754" y="98"/>
                  <a:pt x="1860" y="196"/>
                  <a:pt x="1996" y="196"/>
                </a:cubicBezTo>
                <a:cubicBezTo>
                  <a:pt x="2132" y="196"/>
                  <a:pt x="2329" y="98"/>
                  <a:pt x="2450" y="105"/>
                </a:cubicBezTo>
                <a:cubicBezTo>
                  <a:pt x="2571" y="112"/>
                  <a:pt x="2601" y="248"/>
                  <a:pt x="2722" y="241"/>
                </a:cubicBezTo>
                <a:cubicBezTo>
                  <a:pt x="2843" y="234"/>
                  <a:pt x="3032" y="67"/>
                  <a:pt x="3176" y="60"/>
                </a:cubicBezTo>
                <a:cubicBezTo>
                  <a:pt x="3320" y="53"/>
                  <a:pt x="3448" y="196"/>
                  <a:pt x="3584" y="196"/>
                </a:cubicBezTo>
                <a:cubicBezTo>
                  <a:pt x="3720" y="196"/>
                  <a:pt x="3856" y="60"/>
                  <a:pt x="3992" y="60"/>
                </a:cubicBezTo>
                <a:cubicBezTo>
                  <a:pt x="4128" y="60"/>
                  <a:pt x="4287" y="203"/>
                  <a:pt x="4400" y="196"/>
                </a:cubicBezTo>
                <a:cubicBezTo>
                  <a:pt x="4513" y="189"/>
                  <a:pt x="4551" y="22"/>
                  <a:pt x="4672" y="15"/>
                </a:cubicBezTo>
                <a:cubicBezTo>
                  <a:pt x="4793" y="8"/>
                  <a:pt x="4990" y="151"/>
                  <a:pt x="5126" y="151"/>
                </a:cubicBezTo>
                <a:cubicBezTo>
                  <a:pt x="5262" y="151"/>
                  <a:pt x="5383" y="0"/>
                  <a:pt x="5489" y="15"/>
                </a:cubicBezTo>
                <a:cubicBezTo>
                  <a:pt x="5595" y="30"/>
                  <a:pt x="5678" y="135"/>
                  <a:pt x="5761" y="24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609480" y="4952880"/>
            <a:ext cx="3745080" cy="1368360"/>
            <a:chOff x="609480" y="4952880"/>
            <a:chExt cx="3745080" cy="1368360"/>
          </a:xfrm>
        </p:grpSpPr>
        <p:pic>
          <p:nvPicPr>
            <p:cNvPr id="231" name="Picture 11" descr="ag00418_"/>
            <p:cNvPicPr/>
            <p:nvPr/>
          </p:nvPicPr>
          <p:blipFill>
            <a:blip r:embed="rId4"/>
            <a:stretch/>
          </p:blipFill>
          <p:spPr>
            <a:xfrm>
              <a:off x="609480" y="4952880"/>
              <a:ext cx="3149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12"/>
            <p:cNvSpPr/>
            <p:nvPr/>
          </p:nvSpPr>
          <p:spPr>
            <a:xfrm>
              <a:off x="2049480" y="5889600"/>
              <a:ext cx="2305080" cy="43164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452" h="272">
                  <a:moveTo>
                    <a:pt x="0" y="0"/>
                  </a:moveTo>
                  <a:lnTo>
                    <a:pt x="272" y="272"/>
                  </a:lnTo>
                  <a:lnTo>
                    <a:pt x="1134" y="272"/>
                  </a:lnTo>
                  <a:lnTo>
                    <a:pt x="1452" y="45"/>
                  </a:lnTo>
                  <a:lnTo>
                    <a:pt x="46" y="45"/>
                  </a:lnTo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3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16185E-006 L 0.8033 -0.00531 E">
                                      <p:cBhvr>
                                        <p:cTn id="71" dur="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84556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971800" y="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Решение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52280" y="762120"/>
            <a:ext cx="8991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дача №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териальная точка массой 1 кг равномерно движется по окружности со скоростью 10 м/с. Определить изменение импульса за одну четверть пер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3276720" y="3505320"/>
            <a:ext cx="2795400" cy="2719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4495680" y="3200400"/>
            <a:ext cx="360360" cy="36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path" presetID="1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C 0.09115 3.7037E-007 0.16546 0.09768 0.16546 0.21782 C 0.16546 0.33796 0.09115 0.43588 -3.61111E-006 0.43588 C -0.09132 0.43588 -0.16527 0.33796 -0.16527 0.21782 C -0.16527 0.09768 -0.09132 3.7037E-007 -3.61111E-006 3.7037E-007 Z">
                                      <p:cBhvr>
                                        <p:cTn id="102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Oval 3"/>
          <p:cNvSpPr/>
          <p:nvPr/>
        </p:nvSpPr>
        <p:spPr>
          <a:xfrm>
            <a:off x="2050920" y="1844640"/>
            <a:ext cx="2089440" cy="2089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2987640" y="1700280"/>
            <a:ext cx="21600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3132000" y="1844640"/>
            <a:ext cx="1008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4572000" y="1557360"/>
            <a:ext cx="289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78000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4140360" y="4005360"/>
            <a:ext cx="288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 flipH="1" flipV="1">
            <a:off x="4141800" y="2851200"/>
            <a:ext cx="1010160" cy="94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105520" y="39625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334120" y="3962520"/>
            <a:ext cx="288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81600" y="304920"/>
            <a:ext cx="526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Решение задачи №1</a:t>
            </a:r>
            <a:r>
              <a:rPr b="0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C 0.02084 0.00324 0.03907 0.01111 0.05868 0.02037 C 0.07153 0.03727 0.06528 0.03102 0.07622 0.04051 C 0.07761 0.04352 0.07865 0.04676 0.08056 0.04931 C 0.08229 0.05186 0.08525 0.05255 0.08698 0.0551 C 0.0875 0.05602 0.09757 0.07639 0.1 0.08125 C 0.104 0.08912 0.10452 0.09885 0.10868 0.10718 C 0.11198 0.12848 0.11094 0.1169 0.11094 0.14213 E">
                                      <p:cBhvr>
                                        <p:cTn id="10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024 0.14699 E">
                                      <p:cBhvr>
                                        <p:cTn id="12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0.06319 0.10301 E">
                                      <p:cBhvr>
                                        <p:cTn id="125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06302 0.09445 E">
                                      <p:cBhvr>
                                        <p:cTn id="127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0" y="7650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Georgia"/>
              </a:rPr>
              <a:t>Задача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Ядро массой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, летящее под углом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к горизонту со скоростью 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ru-RU" sz="1600" spc="-1" strike="noStrike">
                <a:solidFill>
                  <a:srgbClr val="ffff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, попадает в движущуюся навстречу горизонтальную платформу и рикошетом отскакивает со скоростью 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ru-RU" sz="1600" spc="-1" strike="noStrike">
                <a:solidFill>
                  <a:srgbClr val="ffff00"/>
                </a:solidFill>
                <a:latin typeface="Monotype Corsiva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под углом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к горизонту. Определите скорость платформы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после взаимодействия, если до взаимодействия она двигалась навстречу ядру со скоростью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 Масса платформы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1116000" y="6093000"/>
            <a:ext cx="712944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"/>
          <p:cNvSpPr/>
          <p:nvPr/>
        </p:nvSpPr>
        <p:spPr>
          <a:xfrm>
            <a:off x="3132000" y="5805360"/>
            <a:ext cx="289080" cy="28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4716360" y="5805360"/>
            <a:ext cx="289080" cy="28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556000" y="5516640"/>
            <a:ext cx="3095640" cy="288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8"/>
          <p:cNvSpPr/>
          <p:nvPr/>
        </p:nvSpPr>
        <p:spPr>
          <a:xfrm>
            <a:off x="1619280" y="414972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1763640" y="4292640"/>
            <a:ext cx="1440000" cy="720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1547280" y="5661000"/>
            <a:ext cx="10083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771640" y="4797360"/>
            <a:ext cx="1440000" cy="719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4140360" y="5013360"/>
            <a:ext cx="2447640" cy="503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258920" y="5157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1835280" y="5157720"/>
            <a:ext cx="21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219564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2771640" y="4292640"/>
            <a:ext cx="216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3059280" y="508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5076720" y="51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681440" y="152280"/>
            <a:ext cx="424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Решение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0"/>
            <a:ext cx="914400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Georgia"/>
              </a:rPr>
              <a:t>Решение задачи №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о взаимо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сле взаимо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1187280" y="3789360"/>
            <a:ext cx="7129800" cy="1440"/>
          </a:xfrm>
          <a:prstGeom prst="line">
            <a:avLst/>
          </a:prstGeom>
          <a:ln cap="rnd" w="1260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48360" y="3200400"/>
            <a:ext cx="3095640" cy="289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659640" y="3500280"/>
            <a:ext cx="288720" cy="28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8532720" y="3500280"/>
            <a:ext cx="289080" cy="28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5003280" y="3357720"/>
            <a:ext cx="10083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1835280" y="126828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979640" y="1413000"/>
            <a:ext cx="1440000" cy="720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3419640" y="2133720"/>
            <a:ext cx="2160360" cy="1079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2627280" y="292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3203640" y="2997360"/>
            <a:ext cx="216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7885080" y="3789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5257800" y="3048120"/>
            <a:ext cx="1440000" cy="720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867280" y="31240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6477120" y="3124080"/>
            <a:ext cx="21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638680" y="28954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1258920" y="6381720"/>
            <a:ext cx="7129440" cy="1440"/>
          </a:xfrm>
          <a:prstGeom prst="line">
            <a:avLst/>
          </a:prstGeom>
          <a:ln cap="rnd" w="1260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8028000" y="6400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140360" y="6093000"/>
            <a:ext cx="288720" cy="28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1"/>
          <p:cNvSpPr/>
          <p:nvPr/>
        </p:nvSpPr>
        <p:spPr>
          <a:xfrm>
            <a:off x="6227640" y="6093000"/>
            <a:ext cx="289080" cy="28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3708360" y="5805360"/>
            <a:ext cx="3095640" cy="289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3058920" y="595008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V="1">
            <a:off x="5364000" y="5157720"/>
            <a:ext cx="2448000" cy="503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5"/>
          <p:cNvSpPr/>
          <p:nvPr/>
        </p:nvSpPr>
        <p:spPr>
          <a:xfrm>
            <a:off x="5148360" y="551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V="1">
            <a:off x="7740720" y="4941720"/>
            <a:ext cx="1008000" cy="216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6012000" y="5516640"/>
            <a:ext cx="2089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7236000" y="51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9"/>
          <p:cNvSpPr/>
          <p:nvPr/>
        </p:nvSpPr>
        <p:spPr>
          <a:xfrm>
            <a:off x="468360" y="544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>
            <a:off x="900000" y="5445000"/>
            <a:ext cx="216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1"/>
          <p:cNvSpPr/>
          <p:nvPr/>
        </p:nvSpPr>
        <p:spPr>
          <a:xfrm>
            <a:off x="7956720" y="4653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V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8317080" y="4653000"/>
            <a:ext cx="21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3"/>
          <p:cNvSpPr/>
          <p:nvPr/>
        </p:nvSpPr>
        <p:spPr>
          <a:xfrm>
            <a:off x="3886200" y="3048120"/>
            <a:ext cx="44956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28351 -1.48148E-006 E">
                                      <p:cBhvr>
                                        <p:cTn id="14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48148E-006 L -0.2599 -1.48148E-006 E">
                                      <p:cBhvr>
                                        <p:cTn id="149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2599 -3.33333E-006 E">
                                      <p:cBhvr>
                                        <p:cTn id="15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-0.25 -3.33333E-006 E">
                                      <p:cBhvr>
                                        <p:cTn id="15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0.36233 0.24143 E">
                                      <p:cBhvr>
                                        <p:cTn id="161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-0.2599 -7.40741E-007 E">
                                      <p:cBhvr>
                                        <p:cTn id="180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48148E-006 L -0.2599 -1.48148E-006 E">
                                      <p:cBhvr>
                                        <p:cTn id="182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2599 -3.33333E-006 E">
                                      <p:cBhvr>
                                        <p:cTn id="184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-0.26372 -2.59259E-006 E">
                                      <p:cBhvr>
                                        <p:cTn id="18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26788 -0.07315 E">
                                      <p:cBhvr>
                                        <p:cTn id="197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4724280" y="-444600"/>
            <a:ext cx="4773600" cy="15112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00"/>
                </a:solidFill>
                <a:uFillTx/>
                <a:latin typeface="Georgia"/>
              </a:rPr>
              <a:t>Задача №3.</a:t>
            </a:r>
            <a:r>
              <a:rPr b="1" i="1" lang="ru-RU" sz="3600" spc="-1" strike="noStrike">
                <a:solidFill>
                  <a:srgbClr val="ffff00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На горизонтальной поверхности лежит брусок массой 0,9 кг. В него попадает пуля массой  12 г, летящая горизонтально со скоростью</a:t>
            </a: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V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rebuchet MS"/>
              </a:rPr>
              <a:t>01</a:t>
            </a: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 =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800 м/с, и застревает в нём. Если до полной остановки брусок пройдёт путь, равный 11м, то чему равен коэффициент силы трения скольжен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5254560" y="1523880"/>
          <a:ext cx="3889440" cy="438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4560" y="1523880"/>
                    <a:ext cx="388944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наталья</cp:lastModifiedBy>
  <dcterms:modified xsi:type="dcterms:W3CDTF">2013-12-05T07:33:0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